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E43-C993-4350-A588-A58C030B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54E-41E5-44B4-BAF1-84A6AD6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268-2E61-422B-8FAD-81668D3A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16A-87EE-454C-BCB1-B94521D7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219-93DD-415D-8E0F-028959C0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F2B-AE3D-43B1-AC80-20847F27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73F-486E-426B-B99F-1C25C98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10C-046A-4F5E-86CC-E50A394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85D-4F80-41EF-80B9-AF4DF04C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3AD-74A8-4FD3-A988-DA2D3D8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F02-B9C3-4531-9827-C23986A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679-F5CD-4210-9BF6-7B13A63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25765-6EBC-499F-ACE7-F40CB4F9939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15EF5-0836-415E-A189-755D3AA237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youtube.com/watch?v=VxacxShp3LY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3"/>
          <a:stretch/>
        </p:blipFill>
        <p:spPr>
          <a:xfrm>
            <a:off x="682560" y="2120760"/>
            <a:ext cx="7778880" cy="1487520"/>
          </a:xfrm>
          <a:prstGeom prst="rect">
            <a:avLst/>
          </a:prstGeom>
          <a:ln w="0">
            <a:noFill/>
          </a:ln>
        </p:spPr>
      </p:pic>
      <p:pic>
        <p:nvPicPr>
          <p:cNvPr id="43" name="Subtitle 2" descr=""/>
          <p:cNvPicPr/>
          <p:nvPr/>
        </p:nvPicPr>
        <p:blipFill>
          <a:blip r:embed="rId4"/>
          <a:stretch/>
        </p:blipFill>
        <p:spPr>
          <a:xfrm>
            <a:off x="682560" y="3882960"/>
            <a:ext cx="7096320" cy="176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fishing is affecting the larger fish in the fishery that need to eat the smaller fish, that live there , to survi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fishing also affects people who need the fish to survive over the people who are using it for income in their econom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ource deple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biological growth r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biomass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5043600" y="2743200"/>
            <a:ext cx="4100400" cy="287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0" y="4718160"/>
            <a:ext cx="4800600" cy="213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y less f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 amount of catches each d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rol bycatch (crustaceans &amp; other oceanic lif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ion of pristine and important habit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and Enforc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6173640" y="4373640"/>
            <a:ext cx="2818080" cy="248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verfishing.org/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verfishing.org/pages/why_is_overfishing_a_problem.ph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grinningplanet.com/2005/06-07/overfishing-article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905364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3"/>
          <a:stretch/>
        </p:blipFill>
        <p:spPr>
          <a:xfrm>
            <a:off x="249120" y="1347840"/>
            <a:ext cx="84441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tching fish faster than they can reproduc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t eventually leads to degradation of biodivers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uman our selves are the cause of the proble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>
            <a:lum contrast="-2000"/>
          </a:blip>
          <a:stretch/>
        </p:blipFill>
        <p:spPr>
          <a:xfrm>
            <a:off x="7416720" y="228600"/>
            <a:ext cx="12700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1447920" y="4648320"/>
            <a:ext cx="639432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the cause of over fishing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tend to catch two to three more times than nee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in size of fishing equipment and amou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ing so causes some species to become endanger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ching fish illeg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hing Techni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ing techneiques has changed over the years causing over fish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ermen have started to use bigger nets, longer fishing lines and fish track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ycat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unwanted fish are caught by fisherman, killed and then tossed back in the ocea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ne of the causes of over fishing, and a main reason fish are now becoming extinc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youtube.com/watch?v=OQZZhSSrRks&amp;feature=rel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Title 1" descr=""/>
          <p:cNvPicPr/>
          <p:nvPr/>
        </p:nvPicPr>
        <p:blipFill>
          <a:blip r:embed="rId3"/>
          <a:stretch/>
        </p:blipFill>
        <p:spPr>
          <a:xfrm>
            <a:off x="-311040" y="-6480"/>
            <a:ext cx="869940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876920" y="1371600"/>
            <a:ext cx="4267080" cy="5486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37160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Big Eyed Tuna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Bluefin Tuna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Atlantic Cod or Scrod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Gilt Darter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Sponhead Sculpin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Alabama CatFish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  </a:t>
            </a:r>
            <a:r>
              <a:rPr b="1" i="1" lang="en-US" sz="3800" spc="-1" strike="noStrike">
                <a:solidFill>
                  <a:srgbClr val="ff3d65"/>
                </a:solidFill>
                <a:latin typeface="Calibri"/>
              </a:rPr>
              <a:t>Silver Chub 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foundland Cod Fish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85800" y="2209680"/>
            <a:ext cx="6350040" cy="443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2"/>
          <a:stretch/>
        </p:blipFill>
        <p:spPr>
          <a:xfrm>
            <a:off x="450720" y="17136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VxacxShp3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6__x0016__x0016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2438280" y="3141720"/>
            <a:ext cx="429264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allowing overfishing to occur because the government and the economy relies on the the income of the fisherm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sherman can only make a profit if they continue to fish until there is nothing less for them to catch, and then they move 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4:05:01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14T14:35:12Z</dcterms:modified>
  <cp:revision>13</cp:revision>
  <dc:subject/>
  <dc:title>Overfishing</dc:title>
</cp:coreProperties>
</file>